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CF3-83D7-4085-9D61-5A79E134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C35-6F2D-4D35-BA4E-4FFB083E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6B8-9BAC-4D4C-A839-73C3CDBB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3A2-DA7D-4239-8929-39CF99CF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16D-912C-4F39-A459-240A92DB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903-55FF-4AF6-91E9-5079F99B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D55-E1ED-4787-A72F-14CE923C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2B0-1CC9-4364-B854-A7BB1B6D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4C3-E9CC-4D97-B184-3D132CD3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038-AAF6-46F3-BA2D-0F948EF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A37-E0A2-4055-804D-A5B0207B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E89-2CC0-4EC4-8E24-71EEF6F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86EA-3078-4FEB-B978-EB9ED7B1F50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1 2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 de Vries</cp:lastModifiedBy>
  <dcterms:modified xsi:type="dcterms:W3CDTF">2003-07-04T14:16:03Z</dcterms:modified>
  <cp:revision>1</cp:revision>
  <dc:subject/>
  <dc:title>PowerPoint Presentation</dc:title>
</cp:coreProperties>
</file>